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928-93CA-4F97-BD5D-1DB11005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D52-39D5-40BB-9D41-CA9C1E23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11C1-CA04-4310-BCEF-CD236BB3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B59-E4EF-4571-9893-13C025F9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639-6284-432B-8787-BB79F926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96B-0EC4-40A2-AC72-1AEFC9E6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6D0-201D-415A-BF7F-19C5FBF6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5E2-8175-4872-8D02-EEBC262C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5B8-3F8C-48E0-AD53-6F4FEC6D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D13-366A-470E-80A0-298D740B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54E-608B-4D5D-97CA-8BF5C27F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85D-76B3-4793-915E-C4EB1723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F763-E58A-461A-AB8A-FECD464B5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14BB-5574-49F6-AF60-4274BE0B38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052640"/>
            <a:ext cx="8101080" cy="489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Эти процессы, с другой стороны, могут находиться не на самом верхнем уровне 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При этом сущность этих данных и их интерпретация для рассматриваемых процессов совершенно не важ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7654-F6EC-4B0F-BDB0-FDFF5A5B46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828000"/>
            <a:ext cx="8426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иложения (Applic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интерфейс с приклад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ровень представления (Presentat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согласование представления (форматов, кодировок) данных прикладных проце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ансовый уровень (Session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 установление, поддержка и закрытие логического сеанса связи между удаленными процесс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65736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6058080"/>
            <a:ext cx="8496360" cy="3636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247400"/>
            <a:ext cx="788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Транспортный уровень (Transport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обеспечение безошибочного сквозного обмена потоками данных между процессами во время сеан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Сетевой уровень (Network) -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 фрагментация и сборка передаваемых транспортным уровнем данных, маршрутизация и продвижение их по сети от компьютера-отправителя к компьютеру-получате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DB29-1890-4082-8926-20C612809C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7280" y="123336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1341360"/>
            <a:ext cx="7813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анальный уровень (Data Link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управление каналом передачи данных, управление доступом к среде передачи, передача данных по каналу, обнаружение ошибок в канале и их корре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Физический уровень (Physical)</a:t>
            </a: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 - физический интерфейс с каналом передачи данных, представление данных в виде физических сигналов и их кодирование (модуляция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9D7B-B812-4DB2-954F-FCFD89825F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7280" y="1268280"/>
            <a:ext cx="849636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09680"/>
            <a:ext cx="8172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. Инкапсуляция и обработка пак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"/>
              </a:rPr>
              <a:t>При продвижении пакета данных по уровням сверху вниз каждый новый уровень добавляет к пакету свою служебную информацию в виде заголовка и, возможно, трейлера. Эта операция называется инкапсуляцией данных верхнего уровня в пакете нижнего уровня. Служебная информация предназначается для объекта того же уровня на удаленном компьютере, ее формат и интерпретация определяются протоколом данного уров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4E04-BF80-41B9-A589-98AFD2365EF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182808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Модель OSI предложена достаточно давно, однако протоколы, на ней основанные, используются редко, во-первых, в силу своей не всегда оправданной сложности, во-вторых , из-за существования хотя и не соответствующих строго модели OSI, но уже хорошо зарекомендовавших себя стеков протоколов (например, TCP/IP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8FFE-AEF8-4BF7-ADC6-472C909878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000" y="210060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. Стек протоколов TCP/IP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это собирательное название для набора (стека) сетевых протоколов разных уровней, используемых в Интерн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0963-9028-4CA4-B590-1302A3ECC3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640" y="873000"/>
            <a:ext cx="78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Особенности TCP/IP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открытые стандарты протоколов, разрабатываемые независимо от программного и аппаратного обеспеч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независимость от физической среды передач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- система уникальной адрес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стандартизованные протоколы высокого уровня для распространенных пользовательских серви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31E7-19F0-4ED0-9839-F298B528E7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1268280"/>
            <a:ext cx="8243640" cy="43927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Стек протоколов TCP/IP делится на 4 уров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прикладной (applicatio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транспортный (transpor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межсетевой (interne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- уровень доступа к среде передачи (network acces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5310-531B-4C20-A0BD-98898F3F90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657360"/>
            <a:ext cx="8317080" cy="5435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Уровень при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Приложения, работающие со стеком TCP/IP, могут также выполнять функции уровней представления и частично сеансового модели OSI; например, преобразование данных к внешнему представлению, группировка данных для передачи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Распространенными примерами приложений являются программы telnet, ftp, HTTP-серверы и клиенты (WWW-броузеры), программы работы с электронной почт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1233360"/>
            <a:ext cx="8496000" cy="716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Стеки сетевых протоколов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E390-A0F4-48AF-9755-556C31B197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3280" y="1916280"/>
            <a:ext cx="8209080" cy="3563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Транспортный уров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Протоколы транспортного уровня обеспечивают прозрачную (сквозную) доставку данных (end-to-end delivery service) между двумя прикладными процесс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7360"/>
            <a:ext cx="849636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EC79-993F-4626-B6F3-B10D451E0C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640" y="1881360"/>
            <a:ext cx="7993080" cy="42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30280" indent="-2541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Процесс, получающий или отправляющий данные с помощью транспортного уровня, идентифицируется на этом уровне номером, который называется номером пор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2C50-9FF9-4F04-94B4-C88FAD3D19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6360" y="1160640"/>
            <a:ext cx="8064360" cy="4789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На транспортном уровне работают два основных протоко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и TC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TCP (Transmission Control Protocol - протокол контроля передачи) -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 надежный протокол с установлением соедин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F18B-278A-45E8-8A9B-99A5E90D33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1015920"/>
            <a:ext cx="7777080" cy="486108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ahoma"/>
              </a:rPr>
              <a:t>4.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UDP (User Datagram Protocol, протокол пользовательских дейтаграмм) фактически не выполняет каких-либо особых функций дополнительно к функциям межсетевого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33A4-2DA0-4001-97B5-E2FD65B0D9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1015920"/>
            <a:ext cx="8317080" cy="48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использу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при пересылке коротких сообщений, когда накладные расходы на установление сеанса и проверку успешной доставки данных оказываются выше расходов на повторную (в случае неудачи) пересылку сообщ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либо в том случае, когда сама организация процесса-приложения обеспечивает установление соединения и проверку доставки пакетов (например, NFS).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5F1E-B502-425E-A543-4EF0F0715F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744840"/>
            <a:ext cx="81727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Значения поле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Source Port - номер порта процесса-отправи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Destination Port - номер порта процесса-получ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Length - длина UDP-пакета вместе с заголовком в окте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994120"/>
                <a:tab algn="l" pos="3624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Checksum - контрольная сумма. Контрольная сумма вычисляется таким же образом, как и в TCP-заголовке (см. п. 3.2); если UDP-пакет имеет нечетную длину, то при вычислении контрольной суммы к нему добавляется нулевой ок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F754-C9FB-4FCC-8073-2730C858C9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584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1703160"/>
            <a:ext cx="8532720" cy="34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Протокол UDP не имеет никаких средств подтверждения безошибочного приема данных или сообщения об ошибке, не обеспечивает приход сообщений в порядке отправки, не производит предварительного установления сеанса связи между прикладными процессами, поэтому он является ненадежным протоколом без установления соеди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40428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ahoma"/>
              </a:rPr>
              <a:t>Межсетевой уровень и протокол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040" y="2060280"/>
            <a:ext cx="793116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be0e3"/>
                </a:solidFill>
                <a:latin typeface="Tahoma"/>
              </a:rPr>
              <a:t>-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Протокол IP доставляет блоки данных, называемых дейтаграммами, от одного IP-адреса к другому. IP-адрес является уикальным 32-битным идентификатором компьютера (точнее, его сетевого интерфейс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280" y="1233000"/>
            <a:ext cx="77770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Данные для дейтаграммы передаются IP-модулю транспортным уровнем. IP-модуль предваряет эти данные заголовком, содержащим IP-адреса отправителя и получателя и другую служебную информацию, и сформированная таким образом дейтаграмма передается на уровень доступа к среде передачи (например, одному из физических интерфейсов) для отправки по каналу передачи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9563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Модуль IP может отправить компьютеру-источнику этой дейтаграммы уведомление об ошибке; такие уведомления отправляются с помощью протокола ICMP, являющегося неотъемлемой частью модуля.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280" y="1520640"/>
            <a:ext cx="8121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1)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2) Инкапсуляция и обработка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3) Стек протоколов TCP/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4) Протокол IP и функции этого протоко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5) Протокол U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6) Вопросы для само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7) Рекомендуемая литература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oyle J. "Routing TCP/IP. Volume I"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5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33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2EA4-9694-4277-A1C8-38C29367D8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6360" y="1125360"/>
            <a:ext cx="7993080" cy="5004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1.1  Семиуровневая модель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Модель OSI (Open System Interconnect Reference Model, Эталонная модель взаимодействия открытых систем) представляет собой универсальный стандарт на взаимодействие двух систем (компьютеров) через вычислительную се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 Уровни модели 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A31C-8C85-4BC7-9498-A71380617BF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413000"/>
            <a:ext cx="8064360" cy="4572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3366ff"/>
                </a:solidFill>
                <a:latin typeface="Tahoma"/>
              </a:rPr>
              <a:t>Каждый уровень определяется сервисом, который он предоставляет вышестоящему уровню, и протоколом - набором правил и форматов данных для взаимодействия между собой объектов одного уровня, работающих на разных компьютерах</a:t>
            </a: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B26F-0911-404C-B31F-43D0F1FE86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484280"/>
            <a:ext cx="7921440" cy="39974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Модель построена так, что объекты одного уровня двух взаимодействующих компьютеров сообщаются непосредственно друг с другом с помощью соответствующих протоколов, не зная, какие уровни лежат под ними и какие функции они выполняю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462D-1E75-4174-B7CB-30582F3C6F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1628640"/>
            <a:ext cx="784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Задача объектов - предоставить через стандартизованный интерфейс определенный сервис вышестоящему уровню, воспользовавшись, если нужно, сервисом, который предоставляет данному объекту нижележащий уровень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1002-E79D-4D31-8699-8C52E9F247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19700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413000"/>
            <a:ext cx="820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640" y="1448280"/>
            <a:ext cx="78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Через стандартизованный интерфейс процесс-отправитель передает данные нижнему уровню, который предоставляет процессу сервис по пересылке данных, а процесс-получатель через такой же стандартизованный интерфейс получает эти данные от нижнего уров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8BFF-FDB0-48AD-BBE0-C1BB1019F6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800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736640"/>
            <a:ext cx="79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При этом ни один из процессов не знает и не имеет необходимости знать, как именно осуществляет передачу данных протокол нижнего уровня, сколько еще уровней находится под ним, какова физическая среда передачи данных и каким путем они движут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Maxim</cp:lastModifiedBy>
  <dcterms:modified xsi:type="dcterms:W3CDTF">2009-01-12T10:26:52Z</dcterms:modified>
  <cp:revision>135</cp:revision>
  <dc:subject/>
  <dc:title>Lecture Template </dc:title>
</cp:coreProperties>
</file>